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6"/>
          </p:nvPr>
        </p:nvSpPr>
        <p:spPr>
          <a:xfrm>
            <a:off x="3868200" y="0"/>
            <a:ext cx="301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5364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7"/>
          </p:nvPr>
        </p:nvSpPr>
        <p:spPr>
          <a:xfrm>
            <a:off x="0" y="9443880"/>
            <a:ext cx="301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8"/>
          </p:nvPr>
        </p:nvSpPr>
        <p:spPr>
          <a:xfrm>
            <a:off x="386820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4181-1B55-4989-BE00-0B2913E36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5400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6856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A385-D938-45CE-87CC-0086A32DE8D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B158-5B68-4606-B005-90D2A3577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1435-1DFC-48A2-B3E8-9CD7C278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82E4-9CEF-4B70-B3B8-AA62994E5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CBB6-C8EB-40F3-BD93-6D82D6B62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4E9D-CE58-40A1-BFD1-43D3B3C2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F3C0-44C6-4D12-ADC5-D178056F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A5EB-D6A7-41C4-B84C-1A7F04D2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5EBB-4AB3-40A6-98CD-2057D292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B3CB-BFAA-4F82-8B48-A8368AA1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AE7C-91B7-4A02-986A-5F234FD0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9B29-CD07-445C-B50E-2D361327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167E-07CA-4A9C-8541-C5FA2E28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B2FA-EEA4-4396-933F-C9361FF4535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68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73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33" name="AutoShape 16"/>
          <p:cNvCxnSpPr>
            <a:stCxn id="228" idx="2"/>
            <a:endCxn id="229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4" name="AutoShape 17"/>
          <p:cNvCxnSpPr>
            <a:stCxn id="228" idx="2"/>
            <a:endCxn id="230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5" name="AutoShape 18"/>
          <p:cNvCxnSpPr>
            <a:stCxn id="228" idx="2"/>
            <a:endCxn id="231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6" name="AutoShape 19"/>
          <p:cNvCxnSpPr>
            <a:stCxn id="228" idx="2"/>
            <a:endCxn id="232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7" name="AutoShape 20"/>
          <p:cNvCxnSpPr>
            <a:stCxn id="226" idx="2"/>
            <a:endCxn id="227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8" name="AutoShape 21"/>
          <p:cNvCxnSpPr>
            <a:stCxn id="226" idx="2"/>
            <a:endCxn id="228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39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56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9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0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76" name="AutoShape 9"/>
          <p:cNvCxnSpPr>
            <a:stCxn id="275" idx="2"/>
            <a:endCxn id="271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7" name="AutoShape 10"/>
          <p:cNvCxnSpPr>
            <a:stCxn id="275" idx="2"/>
            <a:endCxn id="272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8" name="AutoShape 11"/>
          <p:cNvCxnSpPr>
            <a:stCxn id="272" idx="2"/>
            <a:endCxn id="273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9" name="AutoShape 12"/>
          <p:cNvCxnSpPr>
            <a:stCxn id="272" idx="2"/>
            <a:endCxn id="274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80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87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94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302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309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315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322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1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344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54" name="AutoShape 7"/>
          <p:cNvCxnSpPr>
            <a:stCxn id="353" idx="2"/>
            <a:endCxn id="349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5" name="AutoShape 8"/>
          <p:cNvCxnSpPr>
            <a:stCxn id="353" idx="2"/>
            <a:endCxn id="350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6" name="AutoShape 9"/>
          <p:cNvCxnSpPr>
            <a:stCxn id="350" idx="2"/>
            <a:endCxn id="351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7" name="AutoShape 10"/>
          <p:cNvCxnSpPr>
            <a:stCxn id="350" idx="2"/>
            <a:endCxn id="352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58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77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411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421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5" name="AutoShape 4"/>
          <p:cNvCxnSpPr>
            <a:endCxn id="436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7" name="AutoShape 5"/>
          <p:cNvCxnSpPr>
            <a:stCxn id="434" idx="3"/>
            <a:endCxn id="438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6"/>
          <p:cNvCxnSpPr>
            <a:stCxn id="434" idx="3"/>
            <a:endCxn id="440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36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51" name="AutoShape 7"/>
          <p:cNvCxnSpPr>
            <a:stCxn id="450" idx="2"/>
            <a:endCxn id="446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2" name="AutoShape 8"/>
          <p:cNvCxnSpPr>
            <a:stCxn id="450" idx="2"/>
            <a:endCxn id="447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3" name="AutoShape 9"/>
          <p:cNvCxnSpPr>
            <a:stCxn id="447" idx="2"/>
            <a:endCxn id="448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4" name="AutoShape 10"/>
          <p:cNvCxnSpPr>
            <a:stCxn id="447" idx="2"/>
            <a:endCxn id="449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55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61" name="AutoShape 18"/>
          <p:cNvCxnSpPr>
            <a:stCxn id="448" idx="2"/>
            <a:endCxn id="455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2" name="AutoShape 19"/>
          <p:cNvCxnSpPr>
            <a:stCxn id="448" idx="2"/>
            <a:endCxn id="456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3" name="AutoShape 20"/>
          <p:cNvCxnSpPr>
            <a:stCxn id="448" idx="2"/>
            <a:endCxn id="457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4" name="AutoShape 21"/>
          <p:cNvCxnSpPr>
            <a:stCxn id="449" idx="2"/>
            <a:endCxn id="458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5" name="AutoShape 22"/>
          <p:cNvCxnSpPr>
            <a:stCxn id="449" idx="2"/>
            <a:endCxn id="459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6" name="AutoShape 23"/>
          <p:cNvCxnSpPr>
            <a:stCxn id="449" idx="2"/>
            <a:endCxn id="460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0" name="AutoShape 7"/>
          <p:cNvCxnSpPr>
            <a:stCxn id="499" idx="2"/>
            <a:endCxn id="495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1" name="AutoShape 8"/>
          <p:cNvCxnSpPr>
            <a:stCxn id="499" idx="2"/>
            <a:endCxn id="496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2" name="AutoShape 9"/>
          <p:cNvCxnSpPr>
            <a:stCxn id="496" idx="2"/>
            <a:endCxn id="497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3" name="AutoShape 10"/>
          <p:cNvCxnSpPr>
            <a:stCxn id="496" idx="2"/>
            <a:endCxn id="498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04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8" name="AutoShape 24"/>
          <p:cNvCxnSpPr>
            <a:stCxn id="495" idx="2"/>
            <a:endCxn id="507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9" name="AutoShape 25"/>
          <p:cNvCxnSpPr>
            <a:stCxn id="495" idx="2"/>
            <a:endCxn id="506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0" name="AutoShape 26"/>
          <p:cNvCxnSpPr>
            <a:stCxn id="498" idx="2"/>
            <a:endCxn id="504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1" name="AutoShape 27"/>
          <p:cNvCxnSpPr>
            <a:stCxn id="498" idx="2"/>
            <a:endCxn id="505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12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73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79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80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1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84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86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90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3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4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57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601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3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63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21-09-29T12:20:52Z</dcterms:modified>
  <cp:revision>92</cp:revision>
  <dc:subject/>
  <dc:title>No Slide Title</dc:title>
</cp:coreProperties>
</file>